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648FDF3-AC76-4292-BC35-1C29AAB99744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BF8141C8-8E75-4E50-B5F1-8E423FEF338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5B9A98B-C3A0-4510-83EC-449F314E7E1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947FA77-5692-40D5-B7B5-F488A2AF68D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05E0531-C1D0-4277-BE4E-538928E025F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517BF7F-5FF0-4CEE-A9A2-36ADF77926C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1C49086-FA98-4D6B-8E9C-220073A1C02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ABC456D-3548-4530-8373-48EC8EA7E2D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CEFF07D-63CB-4C71-9C4F-BB6648163A6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630C280-6FBC-44E0-9BD1-A7F689E74B0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6CBC330-0361-4570-B7B0-265BF6F282D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5280" y="84888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2: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ding Standar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228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4960" y="1439640"/>
            <a:ext cx="7635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familiar with the example PSP C++ coding standard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able to develop your own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2000" y="4363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93800" y="1439640"/>
            <a:ext cx="7943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R2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consistent set of coding pract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criteria for judging the quality of the code that you p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ate LOC counting by ensuring that your programs are written with a separate physical line for each logical line of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93800" y="1439640"/>
            <a:ext cx="7872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, document, and submit a completed coding standard that calls for quality coding pract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that a separate physical source line is used for each logical line of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the coding standard with your 2A assignment pack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032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ding Standard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2280" y="1434960"/>
            <a:ext cx="77389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C29 on page 670 is an example C++ coding standar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893880" y="2157480"/>
          <a:ext cx="3016080" cy="37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157480"/>
                    <a:ext cx="30160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5"/>
          <p:cNvGraphicFramePr/>
          <p:nvPr/>
        </p:nvGraphicFramePr>
        <p:xfrm>
          <a:off x="4111560" y="2176560"/>
          <a:ext cx="3930840" cy="315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560" y="2176560"/>
                    <a:ext cx="3930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otes About the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93800" y="1439640"/>
            <a:ext cx="76485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n example; therefore, it should be tailored to your prefere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have an existing organizational standard, then you should consider using it for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/Sugg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2200" y="14396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tandard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2T13:24:10Z</cp:lastPrinted>
  <dcterms:modified xsi:type="dcterms:W3CDTF">2018-09-06T00:17:03Z</dcterms:modified>
  <cp:revision>51</cp:revision>
  <dc:subject/>
  <dc:title>No Slide Title</dc:title>
</cp:coreProperties>
</file>